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ЕГРИСАНЕ АКАДЕМСК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ВОД У ФАРМАЦЕУТСКУ ТЕХНОЛОГ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авањ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аствори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836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ивање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начина изражвања процентне концентр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ски проценти – број грама супстанце у 100гр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ски проценти – број милилитара супстанце у 100 ml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./вол. проценти  - број грама супстанце у 100 ml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./теж. Проценти – број милилитара супстанце у 100 грама рас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9913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ђивање познатог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тежин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процента (а) на жељени тежински проценат (ц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- метода израчунавања ”преко крста“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 раз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лажи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врши додавањем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истог растварача тј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азређивача који не садрж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мпонен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, концентрациј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=0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= (ц-б)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ц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Б =  а - 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Ц =  а –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3"/>
          <p:cNvSpPr/>
          <p:nvPr/>
        </p:nvSpPr>
        <p:spPr>
          <a:xfrm>
            <a:off x="609480" y="3200400"/>
            <a:ext cx="99072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2133720" y="4419720"/>
            <a:ext cx="106668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 flipV="1">
            <a:off x="762120" y="4343040"/>
            <a:ext cx="91440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1981080" y="3200400"/>
            <a:ext cx="99072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63748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: припрема раствора водоник пероксида 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Solutio Hidrogenii peroxidi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описује хидроген пероксид у два обл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центровани 30% (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olutio Hidrogenii peroxidi concentrata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зблажени 3%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(Solutio Hidrogenii peroxidi diluta)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рмакопеја прописује да се ни ј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 од водоник пероксида не сме  применити у другој концентрацији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већ само у концентрацији 0,3%.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ај податак је у фармакопеји наведен за сваки од њих у виду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800000"/>
                </a:solidFill>
                <a:uFillTx/>
                <a:latin typeface="Arial"/>
              </a:rPr>
              <a:t>средње концентрације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1% за концентровани водник пероксид (1% од 30% је 0,3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10% за разблажени водник пероксид (10% од 3% је 0,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90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90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904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6904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00"/>
                </a:solidFill>
                <a:latin typeface="Arial"/>
              </a:rPr>
              <a:t>Концентровани раствор водоник пероксида (30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6904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НИКАД СЕ НЕ ИЗДАЈЕ ПАЦИЈЕНТУ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6904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НИ У ЈЕДНОМ СЛУЧАЈУ!</a:t>
            </a:r>
            <a:r>
              <a:rPr b="0" lang="sr-C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цијенту се може издати само раствор припремељен на један од два могућа присту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издаје се 3% раствор хидроген пероксида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olutio Hidrogeni peroxidi dilut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који пацијент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800000"/>
                </a:solidFill>
                <a:uFillTx/>
                <a:latin typeface="Arial"/>
              </a:rPr>
              <a:t>мора пре употребе додатно да разблажи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 се наглашава у сигнатури (испуњен фармакопејски захтев да се сме апликовати само 0,3 %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издаје се 0,3% раствор који пацијент не мора додатно да разблажи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1" lang="sr-Latn-CS" sz="3600" spc="-1" strike="noStrike">
                <a:solidFill>
                  <a:srgbClr val="800000"/>
                </a:solidFill>
                <a:latin typeface="Arial"/>
              </a:rPr>
              <a:t>Hidrogeni peroxidi sol. dil </a:t>
            </a:r>
            <a:r>
              <a:rPr b="1" lang="sr-CS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36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1" lang="sr-CS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sr-Latn-CS" sz="36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i="1" lang="es-ES" sz="3600" spc="-1" strike="noStrike">
                <a:solidFill>
                  <a:srgbClr val="800000"/>
                </a:solidFill>
                <a:latin typeface="Arial"/>
              </a:rPr>
              <a:t>D</a:t>
            </a: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i="1" lang="es-ES" sz="36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.  спољ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30 %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              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3 грама концентрованог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30%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(3-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0 %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            </a:t>
            </a:r>
            <a:r>
              <a:rPr b="1" lang="sr-CS" sz="2400" spc="-1" strike="noStrike" u="sng">
                <a:solidFill>
                  <a:srgbClr val="009900"/>
                </a:solidFill>
                <a:uFillTx/>
                <a:latin typeface="Arial"/>
              </a:rPr>
              <a:t>27 грама  (30 – 3)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30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грама раствора 3 % 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30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гр. 3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% </a:t>
            </a:r>
            <a:r>
              <a:rPr b="1" lang="sr-Latn-CS" sz="1800" spc="-1" strike="noStrike" baseline="-25000">
                <a:solidFill>
                  <a:srgbClr val="ff3300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: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3 гр.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30%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 baseline="-25000">
                <a:solidFill>
                  <a:srgbClr val="800000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=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50 гр.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% </a:t>
            </a:r>
            <a:r>
              <a:rPr b="1" lang="sr-Latn-CS" sz="1800" spc="-1" strike="noStrike" baseline="-25000">
                <a:solidFill>
                  <a:srgbClr val="808080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: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X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гр.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30%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 baseline="-25000">
                <a:solidFill>
                  <a:srgbClr val="800000"/>
                </a:solidFill>
                <a:latin typeface="Arial"/>
              </a:rPr>
              <a:t>H2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X = 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5  грама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 30 %   H</a:t>
            </a:r>
            <a:r>
              <a:rPr b="1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0" lang="sr-Latn-CS" sz="2400" spc="-1" strike="noStrike" baseline="-25000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значи да се одмерава 5 грама 3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додаје  45 грама воде да би се добило 50 грама 3% раствор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бочици од 50 грама са црвеном сигнатуром на којој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ОБАВЕЗНО ПИШЕ РАЗБЛАЖИТИ ЈЕДНУ КАШИКУ СА ПОЛА ЧАШЕ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1219320" y="685800"/>
            <a:ext cx="76176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2743200" y="1523880"/>
            <a:ext cx="99072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066680" y="1447560"/>
            <a:ext cx="762120" cy="533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2743200" y="762120"/>
            <a:ext cx="83808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30 %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0,3 грама концентрованог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30%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(0,3-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0,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cc00"/>
                </a:solidFill>
                <a:latin typeface="Arial"/>
              </a:rPr>
              <a:t>0 %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sr-CS" sz="2400" spc="-1" strike="noStrike" u="sng">
                <a:solidFill>
                  <a:srgbClr val="00cc00"/>
                </a:solidFill>
                <a:uFillTx/>
                <a:latin typeface="Arial"/>
              </a:rPr>
              <a:t>29,7 грама  (30 – 0,3)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30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грама раствора 0,3 %  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30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гр. 0,3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% </a:t>
            </a:r>
            <a:r>
              <a:rPr b="1" lang="sr-Latn-CS" sz="1800" spc="-1" strike="noStrike" baseline="-25000">
                <a:solidFill>
                  <a:srgbClr val="0033cc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: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0,3 гр.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30% </a:t>
            </a:r>
            <a:r>
              <a:rPr b="1" lang="sr-Latn-CS" sz="1800" spc="-1" strike="noStrike" baseline="-25000">
                <a:solidFill>
                  <a:srgbClr val="ff0000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=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50 гр.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0,3</a:t>
            </a:r>
            <a:r>
              <a:rPr b="1" lang="sr-Latn-CS" sz="2400" spc="-1" strike="noStrike">
                <a:solidFill>
                  <a:srgbClr val="0033cc"/>
                </a:solidFill>
                <a:latin typeface="Arial"/>
              </a:rPr>
              <a:t>% </a:t>
            </a:r>
            <a:r>
              <a:rPr b="1" lang="sr-Latn-CS" sz="1800" spc="-1" strike="noStrike" baseline="-25000">
                <a:solidFill>
                  <a:srgbClr val="0033cc"/>
                </a:solidFill>
                <a:latin typeface="Arial"/>
              </a:rPr>
              <a:t>H2O2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 :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гр.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30% </a:t>
            </a:r>
            <a:r>
              <a:rPr b="1" lang="sr-Latn-CS" sz="1800" spc="-1" strike="noStrike" baseline="-25000">
                <a:solidFill>
                  <a:srgbClr val="ff0000"/>
                </a:solidFill>
                <a:latin typeface="Arial"/>
              </a:rPr>
              <a:t>H2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X = 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0,5  грам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30 %   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r-Latn-CS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мерава се 0,5 грама 3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додаје  49,5 грама воде да би се добило 50 грама 0,3% раствор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бочици од 50 грама са црвеном сигнатуром на којој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ИШЕ “СПОЉА НЕРАЗБЛАЖЕНО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1258920" y="836640"/>
            <a:ext cx="76212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743200" y="1523880"/>
            <a:ext cx="99072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1042920" y="1699920"/>
            <a:ext cx="792360" cy="461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V="1">
            <a:off x="2743200" y="762120"/>
            <a:ext cx="83808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 %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грама концентрованог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%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8-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0 %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2000" spc="-1" strike="noStrike" u="sng">
                <a:solidFill>
                  <a:srgbClr val="00cc00"/>
                </a:solidFill>
                <a:uFillTx/>
                <a:latin typeface="Times New Roman"/>
                <a:ea typeface="Times New Roman"/>
              </a:rPr>
              <a:t>22 грама  (30 – 8)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0 </a:t>
            </a:r>
            <a:r>
              <a:rPr b="1" lang="sr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грама раствора 8 %  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sr-Latn-CS" sz="2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</a:t>
            </a:r>
            <a:r>
              <a:rPr b="1" lang="sr-Latn-CS" sz="2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0 </a:t>
            </a:r>
            <a:r>
              <a:rPr b="1" lang="sr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гр. 8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% </a:t>
            </a:r>
            <a:r>
              <a:rPr b="1" lang="sr-Latn-CS" sz="2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H2O2</a:t>
            </a:r>
            <a:r>
              <a:rPr b="1" lang="sr-Latn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: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гр.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0% </a:t>
            </a:r>
            <a:r>
              <a:rPr b="1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H2O2</a:t>
            </a:r>
            <a:r>
              <a:rPr b="1" lang="sr-Latn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= </a:t>
            </a:r>
            <a:r>
              <a:rPr b="1" lang="sr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0 гр.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</a:t>
            </a:r>
            <a:r>
              <a:rPr b="1" lang="sr-Latn-C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% </a:t>
            </a:r>
            <a:r>
              <a:rPr b="1" lang="sr-Latn-CS" sz="2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H2O2</a:t>
            </a:r>
            <a:r>
              <a:rPr b="1" lang="sr-Latn-C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: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.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% </a:t>
            </a:r>
            <a:r>
              <a:rPr b="1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H2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= 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,3  грама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0 %   H</a:t>
            </a:r>
            <a:r>
              <a:rPr b="1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ава се 13,3 грама 30%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даје  36,7 грама воде да би се добило 50 грама 8% раствор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и сигнатура: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бочици од 50 грама са црвеном сигнатуром на којој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ШЕ “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водоник пероксид 8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%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1547640" y="1557360"/>
            <a:ext cx="76212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2916360" y="2421000"/>
            <a:ext cx="761760" cy="45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 flipV="1">
            <a:off x="1187280" y="2349360"/>
            <a:ext cx="792360" cy="462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2771640" y="1628640"/>
            <a:ext cx="792360" cy="462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124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РАСТВ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1600" y="836280"/>
            <a:ext cx="894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Течни бистри лековити препарати намењени за спољашњу или унутрашњу употребу</a:t>
            </a:r>
            <a:r>
              <a:rPr b="0" lang="sr-CS" sz="32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зрађују се растварањем једне или више супстанци у растварач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упстанце се саме растварају у растварачу или се додају друге супстанце које убрзавају или потпомажу  растварање главно делујуће компоне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899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/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i diluti 25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S.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контракције волумена до којег долази када се помешају запремине воде и алкохола за разблаживање се користе искључиво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ски процен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и наведени у прописима рецепата за припрему алкохола с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6%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уменски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аци из таблиц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03 вол %  :     93,87 теж %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96 вол %    :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 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93,84 % тежи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 % волуме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,03 вол %   : 62,43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 %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0 вол %    :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  %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62,4  % тежи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Aethanoli diluti 25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800000"/>
                </a:solidFill>
                <a:latin typeface="Arial"/>
              </a:rPr>
              <a:t>D. S. </a:t>
            </a:r>
            <a:r>
              <a:rPr b="1" i="1" lang="sr-CS" sz="1800" spc="-1" strike="noStrike">
                <a:solidFill>
                  <a:srgbClr val="800000"/>
                </a:solidFill>
                <a:latin typeface="Arial"/>
              </a:rPr>
              <a:t>Спо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"/>
              </a:rPr>
              <a:t>93,84 % тежинских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                       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62,4 грама 96% етан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(62,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                    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                                    </a:t>
            </a: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"/>
              </a:rPr>
              <a:t>62,4  % тежински</a:t>
            </a:r>
            <a:r>
              <a:rPr b="1" lang="sr-CS" sz="1600" spc="-1" strike="noStrike" u="sng">
                <a:solidFill>
                  <a:srgbClr val="009900"/>
                </a:solidFill>
                <a:uFillTx/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0 %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31,44 грама воде 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3,84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2,4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93,84 грама етанола</a:t>
            </a:r>
            <a:r>
              <a:rPr b="0" lang="sr-C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"/>
              </a:rPr>
              <a:t>62,4  % тежинских</a:t>
            </a:r>
            <a:r>
              <a:rPr b="1" lang="ru-RU" sz="1600" spc="-1" strike="noStrike" u="sng">
                <a:solidFill>
                  <a:srgbClr val="808080"/>
                </a:solidFill>
                <a:uFillTx/>
                <a:latin typeface="Arial"/>
              </a:rPr>
              <a:t> (тј.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70% вол</a:t>
            </a:r>
            <a:r>
              <a:rPr b="1" lang="ru-RU" sz="1600" spc="-1" strike="noStrike" u="sng">
                <a:solidFill>
                  <a:srgbClr val="808080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наведених 25 грама препрата из рецепта важи следећа пропорциј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62,4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грама 96 %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:  93,84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грама 70% вол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грама 96 %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:  25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грама 70 %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6,62 грама 96% етан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 грама препарата - 16,62 грама 96% етано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8,3 грама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 flipV="1">
            <a:off x="4356000" y="1483920"/>
            <a:ext cx="792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V="1">
            <a:off x="1619280" y="227664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835280" y="141300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3995640" y="213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58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ис начина израде разблаженог алкохола је официналан и п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ји се може корист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thanol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ficat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432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04920" y="260280"/>
            <a:ext cx="8610480" cy="644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Iodi solutionis aquosa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10,00</a:t>
            </a:r>
            <a:br>
              <a:rPr sz="2400"/>
            </a:b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 Споља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ug I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даје пропис за водени раствор јода чији 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ноним Луголов раствор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olutio Lugol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што је пропис дат за препарат од 100 грама ми ћемо све поделити са 10, јер правимо 10 пута мању количину и добити вредности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du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5,0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0,50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u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atu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0,0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,00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ficat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85,00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8,50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00 гр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10 грама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4716360" y="479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д се у води готово не раств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а се прво прав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сиће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твор калијум јодида у који се додаје ј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д се у раствору калијум јодида добро раств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лијум јодид овде посредник за раствар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бојени раствори се увек филтрира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игнату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у тамној бочици, чува се заштићен од светлости, сигнатура црвена на којој пише „Споља“. У доњем левом углу сигнатуре пише се датум, а у доњем десном потп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антисептик, користи се неразређено за мазањ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Iodi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 s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olutionis aethanolicae 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. Мазати споља разблаж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ug IV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piritus iodi ili Tinctura iod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odu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5,00            0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lium iodatu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4,00            0,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urificat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,00            1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thanolum concetr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81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,00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8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0,00          1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што се прави десет пута мања количину све састојке делити са 1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5219640" y="292428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вера концентрације и дозирања целог препарат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odi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l. aethanolica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парат је официналан у средњој концентрацији 0,3 % тј. 0,3 грама овог раствора треба да буде у 100 грама раствора. На сигнатури пише споља разблаж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авља се питање како пацијенту издати препарат и дати право упутство за коришћење?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Ф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гра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odi solutio aethanolic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54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а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54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ап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0,3 грама 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а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6,2 тј. 16 капи је колич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ју пацијент треба да разблажи у 100 грама воде, што је приближно пола ча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637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јум јодид растварамо у истој количини воде, па пошто имамо 0,4 грама калијум јоди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 нам је потребно и 0,4 грам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авамо на капи знајући да је 1грам воде тежак 20 кап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 грама воде бити 8 капи в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 се мери пластичним или рожнатим прибор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р је корози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рирану чашу одмеравамо 0,4 грама калијум јодида и 8 капи вод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 се то раствори додајемо одмерених 0,5 грама јо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им додајемо преосталих 0,6 грама воде, све то тарирамо и на крају додајемо концентровани алкохо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шамо, филтрирамо и сипамо преко левка у тамну бочи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1052280"/>
            <a:ext cx="91440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уство калијум јодида овде није неопходно ради растварања јода, јер би се јод могао растворити у алкохолу у којем се добро раства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његова улога - да спречи реакцију између јода и воде која би у присуству етанола могла да оксидује етанол у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рћетну киселину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настаје оксидационо средство (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појодатна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елина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амној бочици, сигнатура црвена на којој пише „Узети 16 капи на ½ чаше воде и мазати споља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њем левом углу сигнатуре пише се датум, а у доњем десном потп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разређен само за мазање коже, а разблажен као антисептик за испирање у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1920" y="0"/>
            <a:ext cx="8991720" cy="60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OLVENS -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ства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OLVENDUM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– супстанца која се раст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SOLUTIO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– раст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стварачи су НАЈЧЕШЋЕ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ВОДА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ЕТАНОЛ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(могу и глицерол, пропиленгликол, биљна уља, течни парафин ит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112500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i borici        1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riti dil.         5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f. 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. споља по потре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вера концент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51,5г преп. : 1,5 г борне киселине = 100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2,91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е од 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%  средња конц.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Разблажени алкохол 70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ис начина израде разблаженог алкохола је официналан и п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ји се може корист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thanol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fic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грама 70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алкохола  : 33 грама воде = 50 грама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6,5 грам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грама 70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алкохола : 67 грама 96 % алкохола = 50 грама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33,5 грам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 % 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имо 16,5 грама воде и загрејемо до кључ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мо 1,5 грама бор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раствор охлади пренесемо у тарирану бочицу и додамо 33,5 грама концентрованог алкох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нимо водом до прописане тежине ако је потреб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76500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а апсорпција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кција мириса и ук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, хемијска и микробиолишка не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дити растворљивост солвендума у солвенсу тј. раствар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 о растворљивости супстанце се налазе у монограф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степена растворљивости – I волумен IV фармакопеје одељак (3 - 01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549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брати одговарајућу бочицу према количини препарата који се прави (бочица стаклена или пластична а запушач плутани или пластич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растворне супстанце се растварају директно у боч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раствара више супстанци или је потребан посебан поступак раствори се израђују у хемијској ча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се издају у одговарајућим бочиц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 тежине алкохола, воде, сирупа или глицерола није могуће спаковати у бочице исте запремине, јер свака од ових течности има различиту густ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могуће израђују се на хладно а могу се и загревати ако то захтевају физичко – хемијске особине суп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раствара неколико супстанци под различитим условима , онда се свака супстанца засебно раствара па се раствори помеш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тура – бела или цр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као раства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доб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 је добро подн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а 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писује 2 врсте воде за прављење раст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qua purificata</a:t>
            </a:r>
            <a:r>
              <a:rPr b="0" lang="sr-Latn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qua destilata, aqua demineralisata</a:t>
            </a:r>
            <a:r>
              <a:rPr b="0" lang="sr-Latn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илацијом или деминерализацијом питке воде  - рок трајања 10 д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qua pro injectione</a:t>
            </a:r>
            <a:r>
              <a:rPr b="0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стилацијом свеже пречишћене воде, а затим стерилизациј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 у фармациј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 етанол –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um concentratum  - 96%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олуменски процен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ними  и скраћениц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. Con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iritus con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фицинални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етанол –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um dilutum – 70%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олуменски процен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ними  и скраћениц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. dil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iritus vini dil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фицинални по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itus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thanolum – 90%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луменски проценти)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ан само п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дела раствор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ма врсти растврач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еле се на водене, алкохолне, глицеролне и уљане растворе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lutiones aquoas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lutiones aethanolica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lutiones glycerolata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lutiones oleosa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ма начину примен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 растворе за унутрашњу, спољашњу или парентералну 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Solutiones ophtalmicae, Collyria ili Oculoguttae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твори за 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utta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твори за перо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Rhinoguttae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Naristillae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пи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О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ttoguttae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Auristillae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капи за у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Injectiones, Injectabilia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раствори за ињ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Inhalationes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раствори за инха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Infundibilia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раствори за инф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Enemata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раствори за клист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Gargarismata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раствори за гргљ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80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Irrigationes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раствори за исп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rijana</cp:lastModifiedBy>
  <dcterms:modified xsi:type="dcterms:W3CDTF">2019-01-17T12:07:59Z</dcterms:modified>
  <cp:revision>37</cp:revision>
  <dc:subject/>
  <dc:title>Slide 1</dc:title>
</cp:coreProperties>
</file>